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08EC-8ED7-4E02-813B-70F0E1DF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C6A-A7B3-4551-9193-99598D52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4FE5-9062-4567-BC5A-C28EB93F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E68D-6DF4-405B-9B4D-99B43155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D7AB-44BD-4DE4-A1E8-5D8535F0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39F2-E166-4519-8CE9-5A91232F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72E5-86A8-43E6-A3F9-749AC04C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8430-B9BC-4294-A564-8ECD1B8F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E8D8-B52A-41A3-A8FB-A0A81D86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3CB8-DC32-4BDB-AC51-F442DFEA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B741-054D-4193-926A-0937C11F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A572-3DFB-4B1A-8729-DF1C65C8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1DC1-03A6-419E-998D-596FB9FCC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228600"/>
            <a:ext cx="57150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HS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plying to University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pt. 2011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81280" y="4267080"/>
            <a:ext cx="204156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my option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 your research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E-Info, OUAC online video tuto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eck program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ill you finance your edu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cholarships/Bursaries/Loans/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SAP – apply on-line in mid-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et your deadlin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00200" y="53352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ife after high school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8001000" cy="57909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5.  When will I receive my accept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arly offers of admission –Dec/Ja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ther offers – March/May/Ju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ternate Offers of Ad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ferrals / Conditions of Accep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eck your academic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must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t us know if you are taking   a course outside of regular day school (night school, summer school, e-  learning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153280" cy="5668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Check out the grad wiki 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Applying outside of Ontario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Career Counselling- Amanda – Gui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10.  Q  &amp;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7:42:51Z</dcterms:created>
  <dc:creator>Customer</dc:creator>
  <dc:description/>
  <dc:language>en-US</dc:language>
  <cp:lastModifiedBy>Customer</cp:lastModifiedBy>
  <dcterms:modified xsi:type="dcterms:W3CDTF">2010-11-03T15:17:44Z</dcterms:modified>
  <cp:revision>13</cp:revision>
  <dc:subject/>
  <dc:title>RHS Applying to University  Sept. 2010  </dc:title>
</cp:coreProperties>
</file>